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A563D-3D41-4A65-8BB9-CC5B5BD1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4" name="PlaceHolder 2"/>
          <p:cNvSpPr>
            <a:spLocks noGrp="1"/>
          </p:cNvSpPr>
          <p:nvPr>
            <p:ph/>
          </p:nvPr>
        </p:nvSpPr>
        <p:spPr>
          <a:xfrm>
            <a:off x="914040" y="19220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1327-1558-486F-AA5A-B2266156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7"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A7B6F-2535-46DF-8125-7E51EF8B8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42" name="PlaceHolder 2"/>
          <p:cNvSpPr>
            <a:spLocks noGrp="1"/>
          </p:cNvSpPr>
          <p:nvPr>
            <p:ph/>
          </p:nvPr>
        </p:nvSpPr>
        <p:spPr>
          <a:xfrm>
            <a:off x="9140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3"/>
          <p:cNvSpPr>
            <a:spLocks noGrp="1"/>
          </p:cNvSpPr>
          <p:nvPr>
            <p:ph/>
          </p:nvPr>
        </p:nvSpPr>
        <p:spPr>
          <a:xfrm>
            <a:off x="36194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4"/>
          <p:cNvSpPr>
            <a:spLocks noGrp="1"/>
          </p:cNvSpPr>
          <p:nvPr>
            <p:ph/>
          </p:nvPr>
        </p:nvSpPr>
        <p:spPr>
          <a:xfrm>
            <a:off x="63248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5"/>
          <p:cNvSpPr>
            <a:spLocks noGrp="1"/>
          </p:cNvSpPr>
          <p:nvPr>
            <p:ph/>
          </p:nvPr>
        </p:nvSpPr>
        <p:spPr>
          <a:xfrm>
            <a:off x="9140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6"/>
          <p:cNvSpPr>
            <a:spLocks noGrp="1"/>
          </p:cNvSpPr>
          <p:nvPr>
            <p:ph/>
          </p:nvPr>
        </p:nvSpPr>
        <p:spPr>
          <a:xfrm>
            <a:off x="36194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7"/>
          <p:cNvSpPr>
            <a:spLocks noGrp="1"/>
          </p:cNvSpPr>
          <p:nvPr>
            <p:ph/>
          </p:nvPr>
        </p:nvSpPr>
        <p:spPr>
          <a:xfrm>
            <a:off x="63248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A8306-C6C0-4CFE-B911-FAC28A7AE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F6C38-1FBC-46B4-AA98-E90D0A868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59" name="PlaceHolder 2"/>
          <p:cNvSpPr>
            <a:spLocks noGrp="1"/>
          </p:cNvSpPr>
          <p:nvPr>
            <p:ph type="subTitle"/>
          </p:nvPr>
        </p:nvSpPr>
        <p:spPr>
          <a:xfrm>
            <a:off x="914040" y="1922040"/>
            <a:ext cx="8001000" cy="4173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2DCB4-4A01-44B6-B118-78C68C9B9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1"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28AF2-6FE3-4D7B-B2B0-ADD05911C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3"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A2DEF-13E3-4DD3-AFF6-7BAEDDF53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F7178-2068-44B4-9161-FDB63163C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440" y="495000"/>
            <a:ext cx="8001000" cy="2649600"/>
          </a:xfrm>
          <a:prstGeom prst="rect">
            <a:avLst/>
          </a:prstGeom>
          <a:noFill/>
          <a:ln w="0">
            <a:noFill/>
          </a:ln>
        </p:spPr>
        <p:txBody>
          <a:bodyPr lIns="0" rIns="0" tIns="0" bIns="0" anchor="ctr">
            <a:noAutofit/>
          </a:bodyPr>
          <a:p>
            <a:endParaRPr b="0" lang="en-US" sz="2800" spc="-1" strike="noStrike">
              <a:solidFill>
                <a:srgbClr val="9900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AE843-4D90-4AF7-842A-350E62212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68"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9B88-B50A-4AEF-9245-693425838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3" name="PlaceHolder 2"/>
          <p:cNvSpPr>
            <a:spLocks noGrp="1"/>
          </p:cNvSpPr>
          <p:nvPr>
            <p:ph type="subTitle"/>
          </p:nvPr>
        </p:nvSpPr>
        <p:spPr>
          <a:xfrm>
            <a:off x="914040" y="1922040"/>
            <a:ext cx="8001000" cy="4173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54FF-F256-4DE5-B12A-FD0EE0E9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72"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9134-11EE-4BDC-992B-FAF86F38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76"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09B9-521E-470C-946B-C6C6315EC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0" name="PlaceHolder 2"/>
          <p:cNvSpPr>
            <a:spLocks noGrp="1"/>
          </p:cNvSpPr>
          <p:nvPr>
            <p:ph/>
          </p:nvPr>
        </p:nvSpPr>
        <p:spPr>
          <a:xfrm>
            <a:off x="914040" y="19220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F8376-0F33-4C95-BAD1-1C266ACB1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3"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F6112-B428-4994-BA65-591DB2AC8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88" name="PlaceHolder 2"/>
          <p:cNvSpPr>
            <a:spLocks noGrp="1"/>
          </p:cNvSpPr>
          <p:nvPr>
            <p:ph/>
          </p:nvPr>
        </p:nvSpPr>
        <p:spPr>
          <a:xfrm>
            <a:off x="9140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6194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324840" y="19220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9140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6194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324840" y="4101840"/>
            <a:ext cx="257616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04ED7-5292-43AB-97AB-E5F75261E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5"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2506-8653-4BCF-82F4-166EB2EE4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17"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2DAF6-5201-4926-B0FD-3A993D9A2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A6BB-ED85-4D9F-A8E2-480169E5F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495000"/>
            <a:ext cx="8001000" cy="2649600"/>
          </a:xfrm>
          <a:prstGeom prst="rect">
            <a:avLst/>
          </a:prstGeom>
          <a:noFill/>
          <a:ln w="0">
            <a:noFill/>
          </a:ln>
        </p:spPr>
        <p:txBody>
          <a:bodyPr lIns="0" rIns="0" tIns="0" bIns="0" anchor="ctr">
            <a:noAutofit/>
          </a:bodyPr>
          <a:p>
            <a:endParaRPr b="0" lang="en-US" sz="2800" spc="-1" strike="noStrike">
              <a:solidFill>
                <a:srgbClr val="9900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CD59-AA2D-4970-B660-060DC63A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22"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01372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91404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6376-F487-452F-A8A1-E83AFE49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26" name="PlaceHolder 2"/>
          <p:cNvSpPr>
            <a:spLocks noGrp="1"/>
          </p:cNvSpPr>
          <p:nvPr>
            <p:ph/>
          </p:nvPr>
        </p:nvSpPr>
        <p:spPr>
          <a:xfrm>
            <a:off x="914040" y="1922040"/>
            <a:ext cx="3904200" cy="41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5013720" y="41018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03BE-E706-4EF8-ABA2-2CC7B8E0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cc"/>
              </a:solidFill>
              <a:latin typeface="Verdana"/>
            </a:endParaRPr>
          </a:p>
        </p:txBody>
      </p:sp>
      <p:sp>
        <p:nvSpPr>
          <p:cNvPr id="30" name="PlaceHolder 2"/>
          <p:cNvSpPr>
            <a:spLocks noGrp="1"/>
          </p:cNvSpPr>
          <p:nvPr>
            <p:ph/>
          </p:nvPr>
        </p:nvSpPr>
        <p:spPr>
          <a:xfrm>
            <a:off x="91404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013720" y="1922040"/>
            <a:ext cx="39042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914040" y="4101840"/>
            <a:ext cx="8001000" cy="199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AEC7-EB6B-4156-83BF-5C9E109F4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685440" y="495000"/>
            <a:ext cx="8001000" cy="571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Verdana"/>
              </a:rPr>
              <a:t>Click to edit the title text format</a:t>
            </a:r>
            <a:endParaRPr b="1" lang="en-US" sz="3200" spc="-1" strike="noStrike">
              <a:solidFill>
                <a:srgbClr val="9900cc"/>
              </a:solidFill>
              <a:latin typeface="Verdana"/>
            </a:endParaRPr>
          </a:p>
        </p:txBody>
      </p:sp>
      <p:sp>
        <p:nvSpPr>
          <p:cNvPr id="5" name="PlaceHolder 2"/>
          <p:cNvSpPr>
            <a:spLocks noGrp="1"/>
          </p:cNvSpPr>
          <p:nvPr>
            <p:ph type="body"/>
          </p:nvPr>
        </p:nvSpPr>
        <p:spPr>
          <a:xfrm>
            <a:off x="914040" y="1922040"/>
            <a:ext cx="8001000" cy="417348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60E0-D2FD-438E-A37F-AF75AB893F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371600"/>
            <a:ext cx="7391520" cy="318960"/>
            <a:chOff x="228600" y="1371600"/>
            <a:chExt cx="7391520" cy="318960"/>
          </a:xfrm>
        </p:grpSpPr>
        <p:sp>
          <p:nvSpPr>
            <p:cNvPr id="10" name=""/>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4B09-104C-41CE-80F3-C43B11FBD2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Verdana"/>
              </a:rPr>
              <a:t>Click to edit the outline text format</a:t>
            </a:r>
            <a:endParaRPr b="0" lang="en-US" sz="2800" spc="-1" strike="noStrike">
              <a:solidFill>
                <a:srgbClr val="9900cc"/>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SzPct val="80000"/>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txBox="1"/>
          <p:nvPr/>
        </p:nvSpPr>
        <p:spPr>
          <a:xfrm>
            <a:off x="5195520" y="6550560"/>
            <a:ext cx="3279960" cy="3070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5" name=""/>
          <p:cNvSpPr txBox="1"/>
          <p:nvPr/>
        </p:nvSpPr>
        <p:spPr>
          <a:xfrm>
            <a:off x="2666880" y="6550560"/>
            <a:ext cx="1905120" cy="307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ffffff"/>
              </a:solidFill>
              <a:latin typeface="Times New Roman"/>
            </a:endParaRPr>
          </a:p>
        </p:txBody>
      </p:sp>
      <p:sp>
        <p:nvSpPr>
          <p:cNvPr id="96" name="PlaceHolder 1"/>
          <p:cNvSpPr>
            <a:spLocks noGrp="1"/>
          </p:cNvSpPr>
          <p:nvPr>
            <p:ph type="title"/>
          </p:nvPr>
        </p:nvSpPr>
        <p:spPr>
          <a:xfrm>
            <a:off x="1600200" y="1142640"/>
            <a:ext cx="6324480" cy="35053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ava – Methods</a:t>
            </a:r>
            <a:br>
              <a:rPr sz="2800"/>
            </a:br>
            <a:r>
              <a:rPr b="1" lang="en-US" sz="3600" spc="-1" strike="noStrike">
                <a:solidFill>
                  <a:srgbClr val="ffffff"/>
                </a:solidFill>
                <a:latin typeface="Verdana"/>
              </a:rPr>
              <a:t>Lecture Notes 5 </a:t>
            </a:r>
            <a:endParaRPr b="1" lang="en-US" sz="3600" spc="-1" strike="noStrike">
              <a:solidFill>
                <a:srgbClr val="000000"/>
              </a:solidFill>
              <a:latin typeface="Verdana"/>
            </a:endParaRPr>
          </a:p>
        </p:txBody>
      </p:sp>
      <p:sp>
        <p:nvSpPr>
          <p:cNvPr id="97" name="PlaceHolder 2"/>
          <p:cNvSpPr>
            <a:spLocks noGrp="1"/>
          </p:cNvSpPr>
          <p:nvPr>
            <p:ph type="subTitle"/>
          </p:nvPr>
        </p:nvSpPr>
        <p:spPr>
          <a:xfrm>
            <a:off x="5065200" y="3070080"/>
            <a:ext cx="2698920" cy="8575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9900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An Example  </a:t>
            </a:r>
            <a:endParaRPr b="1" lang="en-US" sz="3200" spc="-1" strike="noStrike">
              <a:solidFill>
                <a:srgbClr val="9900cc"/>
              </a:solidFill>
              <a:latin typeface="Verdana"/>
            </a:endParaRPr>
          </a:p>
        </p:txBody>
      </p:sp>
      <p:sp>
        <p:nvSpPr>
          <p:cNvPr id="124"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25" name=""/>
          <p:cNvSpPr/>
          <p:nvPr/>
        </p:nvSpPr>
        <p:spPr>
          <a:xfrm>
            <a:off x="272880" y="23623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425520" y="1905120"/>
            <a:ext cx="864216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class CountFlip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int NUM = 10000; // number of flip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t counter=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stantiate(create) an o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oin mycoin = new Coi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or(int i=1; i &lt;= NUM; 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ycoin.flip();</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f (mycoin.getFace() == mycoin.tail)  //count tail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ounter++;</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double prob = (double) counter/NUM * 10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System.out.printl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probability of having a tail is " + prob);</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99"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0" name=""/>
          <p:cNvSpPr/>
          <p:nvPr/>
        </p:nvSpPr>
        <p:spPr>
          <a:xfrm>
            <a:off x="193680" y="1922400"/>
            <a:ext cx="8642520" cy="495324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l objects, including software objects, have state and behavio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 a student as an object has name, address, courses, grades, this is a state. On the other hand, the student has behaviors/methods, such that adding/changing course.</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Objects </a:t>
            </a:r>
            <a:endParaRPr b="1" lang="en-US" sz="3200" spc="-1" strike="noStrike">
              <a:solidFill>
                <a:srgbClr val="9900cc"/>
              </a:solidFill>
              <a:latin typeface="Verdana"/>
            </a:endParaRPr>
          </a:p>
        </p:txBody>
      </p:sp>
      <p:sp>
        <p:nvSpPr>
          <p:cNvPr id="102"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3" name=""/>
          <p:cNvSpPr/>
          <p:nvPr/>
        </p:nvSpPr>
        <p:spPr>
          <a:xfrm>
            <a:off x="272880" y="1657440"/>
            <a:ext cx="8642520" cy="5657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jects are defined by class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class can contain any number of data and methods - they are called members of a cl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s allow the programmer to modularize a progra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l variables declared in method definitions are local variables–they are known only in the method in which they are defin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st methods have a list of parameters that provide the means for communicating information between methods via method call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ethod’s parameters are also local variable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05"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6" name=""/>
          <p:cNvSpPr/>
          <p:nvPr/>
        </p:nvSpPr>
        <p:spPr>
          <a:xfrm>
            <a:off x="27288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formal method definition: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ccess_modifiers method_modifiers return_type method_name( parameter_lis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bod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 method has two major part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declaration (the first line) and method body. The method declaration defines all of the method's attributes, such as access level, return type, name, and arguments. The method body is where all the action takes pla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252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Classes and Objects </a:t>
            </a:r>
            <a:endParaRPr b="1" lang="en-US" sz="3200" spc="-1" strike="noStrike">
              <a:solidFill>
                <a:srgbClr val="9900cc"/>
              </a:solidFill>
              <a:latin typeface="Verdana"/>
            </a:endParaRPr>
          </a:p>
        </p:txBody>
      </p:sp>
      <p:sp>
        <p:nvSpPr>
          <p:cNvPr id="108"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09" name=""/>
          <p:cNvSpPr/>
          <p:nvPr/>
        </p:nvSpPr>
        <p:spPr>
          <a:xfrm>
            <a:off x="272880" y="1922400"/>
            <a:ext cx="8642520" cy="4953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l what is said below is true for fields and classes as well.</a:t>
            </a:r>
            <a:endParaRPr b="0" lang="en-US" sz="1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ess_modifiers </a:t>
            </a:r>
            <a:endParaRPr b="0" lang="en-US" sz="18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You control which other classes have access to a method using one of four acces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evel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600" spc="-1" strike="noStrike">
                <a:solidFill>
                  <a:srgbClr val="000000"/>
                </a:solidFill>
                <a:latin typeface="Verdana"/>
              </a:rPr>
              <a:t>public, private, protected and package.</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 exampl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ackage my_packa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class Poin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nt x, 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 int moves = 0;</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void move(int dx, int dy)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x += dx; y += d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ove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Class Member Access </a:t>
            </a:r>
            <a:endParaRPr b="1" lang="en-US" sz="3200" spc="-1" strike="noStrike">
              <a:solidFill>
                <a:srgbClr val="9900cc"/>
              </a:solidFill>
              <a:latin typeface="Verdana"/>
            </a:endParaRPr>
          </a:p>
        </p:txBody>
      </p:sp>
      <p:sp>
        <p:nvSpPr>
          <p:cNvPr id="111"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2" name=""/>
          <p:cNvSpPr/>
          <p:nvPr/>
        </p:nvSpPr>
        <p:spPr>
          <a:xfrm>
            <a:off x="144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 public class member is accessible throughout the package where it is declared and from any other packag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 private class member is accessible only within the class body in which the member is declared. Subclasses cannot see private names declared in their parent class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otected class members can be visible to subclasses or other classes within the same packag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g: public class Shape extends Obje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otected 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ublic class Circle extends Shap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have the access to 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If none of keywords public, private, protected are specified, the method is not accessible in any other packa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14"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5" name=""/>
          <p:cNvSpPr/>
          <p:nvPr/>
        </p:nvSpPr>
        <p:spPr>
          <a:xfrm>
            <a:off x="1440" y="1690560"/>
            <a:ext cx="8642520" cy="4953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 nam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ethod names should be verbs or verb phrases with the first letter lowercase and the first letter of any subsequent words capitalized, for example toLowerCas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eld nam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Names of fields that are not final should be nouns or noun phrases with a lowercase first letter and the first letters of subsequent words capitaliz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2600" y="40428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Methods  </a:t>
            </a:r>
            <a:endParaRPr b="1" lang="en-US" sz="3200" spc="-1" strike="noStrike">
              <a:solidFill>
                <a:srgbClr val="9900cc"/>
              </a:solidFill>
              <a:latin typeface="Verdana"/>
            </a:endParaRPr>
          </a:p>
        </p:txBody>
      </p:sp>
      <p:sp>
        <p:nvSpPr>
          <p:cNvPr id="117"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18" name=""/>
          <p:cNvSpPr/>
          <p:nvPr/>
        </p:nvSpPr>
        <p:spPr>
          <a:xfrm>
            <a:off x="1440" y="19051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thod_modifiers</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static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is as a class method. A class method is always invoked without reference to a particular object. A method that is NOT declared static is called an instance method, and sometimes called a non-static metho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abstract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method has no implementation, but it does have a signature: name and number and type of parameter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final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is method cannot be overridden by subclasse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ative method is implemented in platform-dependent code, typically written in another programming languag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800" spc="-1" strike="noStrike">
                <a:solidFill>
                  <a:srgbClr val="000000"/>
                </a:solidFill>
                <a:latin typeface="Verdana"/>
              </a:rPr>
              <a:t>synchronized method</a:t>
            </a:r>
            <a:r>
              <a:rPr b="1" lang="en-US"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We discuss this when we learn threa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2600" y="448920"/>
            <a:ext cx="8001000" cy="90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erdana"/>
              </a:rPr>
              <a:t>An Example  </a:t>
            </a:r>
            <a:endParaRPr b="1" lang="en-US" sz="3200" spc="-1" strike="noStrike">
              <a:solidFill>
                <a:srgbClr val="9900cc"/>
              </a:solidFill>
              <a:latin typeface="Verdana"/>
            </a:endParaRPr>
          </a:p>
        </p:txBody>
      </p:sp>
      <p:sp>
        <p:nvSpPr>
          <p:cNvPr id="120" name="PlaceHolder 2"/>
          <p:cNvSpPr>
            <a:spLocks noGrp="1"/>
          </p:cNvSpPr>
          <p:nvPr>
            <p:ph/>
          </p:nvPr>
        </p:nvSpPr>
        <p:spPr>
          <a:xfrm>
            <a:off x="914040" y="1922040"/>
            <a:ext cx="8001000" cy="41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0">
                <a:solidFill>
                  <a:srgbClr val="000000"/>
                </a:solidFill>
                <a:latin typeface="Verdana"/>
              </a:rPr>
              <a:t>        </a:t>
            </a:r>
            <a:endParaRPr b="0" lang="en-US" sz="3600" spc="-1" strike="noStrike">
              <a:solidFill>
                <a:srgbClr val="000000"/>
              </a:solidFill>
              <a:latin typeface="Verdana"/>
            </a:endParaRPr>
          </a:p>
        </p:txBody>
      </p:sp>
      <p:sp>
        <p:nvSpPr>
          <p:cNvPr id="121" name=""/>
          <p:cNvSpPr/>
          <p:nvPr/>
        </p:nvSpPr>
        <p:spPr>
          <a:xfrm>
            <a:off x="272880" y="2362320"/>
            <a:ext cx="864252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425520" y="1905120"/>
            <a:ext cx="8642160" cy="495288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class Coi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our public data</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public int head = 0;</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l public int tail = 1;</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our private data</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 int face;   //result of flipping</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methods</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Coin(int 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ace = n;</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void flip()   // Math.random() generate a float number between 0 and 1</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ace = (int)(Math.random()*2);   //casting is necesary</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 int getFace()   //since face is private we have to define a method</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which returns the result of flipping</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 face;</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18:58:35Z</dcterms:created>
  <dc:creator>dslater</dc:creator>
  <dc:description/>
  <dc:language>en-US</dc:language>
  <cp:lastModifiedBy>student</cp:lastModifiedBy>
  <dcterms:modified xsi:type="dcterms:W3CDTF">2001-09-12T19:13:03Z</dcterms:modified>
  <cp:revision>136</cp:revision>
  <dc:subject/>
  <dc:title>Advanced Placement /  Early Admission</dc:title>
</cp:coreProperties>
</file>