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6DE31-D151-4B88-829F-C7ECF39A5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495000"/>
            <a:ext cx="80010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cc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040" y="1922040"/>
            <a:ext cx="8001000" cy="19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040" y="4101840"/>
            <a:ext cx="8001000" cy="19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69397-58EF-402C-91C0-A8315A4D3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495000"/>
            <a:ext cx="80010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cc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040" y="1922040"/>
            <a:ext cx="3904200" cy="19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13720" y="1922040"/>
            <a:ext cx="3904200" cy="19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040" y="4101840"/>
            <a:ext cx="3904200" cy="19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13720" y="4101840"/>
            <a:ext cx="3904200" cy="19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C1AF1-2D36-41E6-8E0A-7CC46AFAA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495000"/>
            <a:ext cx="80010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cc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040" y="1922040"/>
            <a:ext cx="2576160" cy="19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619440" y="1922040"/>
            <a:ext cx="2576160" cy="19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324840" y="1922040"/>
            <a:ext cx="2576160" cy="19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040" y="4101840"/>
            <a:ext cx="2576160" cy="19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619440" y="4101840"/>
            <a:ext cx="2576160" cy="19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324840" y="4101840"/>
            <a:ext cx="2576160" cy="19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4EA11-FCBB-4568-85C7-126C16685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2B972-E6E4-431A-83D0-8808722E8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495000"/>
            <a:ext cx="80010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cc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914040" y="1922040"/>
            <a:ext cx="8001000" cy="41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c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0DE6D-0F55-4CEB-88A1-5326C3DD0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495000"/>
            <a:ext cx="80010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cc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040" y="1922040"/>
            <a:ext cx="8001000" cy="41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666EE-0312-49BC-8CFE-4EF4C84F0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495000"/>
            <a:ext cx="80010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cc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040" y="1922040"/>
            <a:ext cx="3904200" cy="41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13720" y="1922040"/>
            <a:ext cx="3904200" cy="41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40FFE-3431-42B9-89E2-DED1F621F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440" y="495000"/>
            <a:ext cx="80010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c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D96B6-387B-41F6-8246-14F7819B9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685440" y="495000"/>
            <a:ext cx="8001000" cy="264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9900c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D3C78-515B-4D25-A9AD-73D97D79D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440" y="495000"/>
            <a:ext cx="80010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cc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040" y="1922040"/>
            <a:ext cx="3904200" cy="19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3720" y="1922040"/>
            <a:ext cx="3904200" cy="41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14040" y="4101840"/>
            <a:ext cx="3904200" cy="19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6E446-CB45-41C4-BDC3-E17296AEC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495000"/>
            <a:ext cx="80010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cc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040" y="1922040"/>
            <a:ext cx="8001000" cy="41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c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6F2A7-E661-45C9-AA77-992C5B53E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440" y="495000"/>
            <a:ext cx="80010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cc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040" y="1922040"/>
            <a:ext cx="3904200" cy="41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13720" y="1922040"/>
            <a:ext cx="3904200" cy="19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3720" y="4101840"/>
            <a:ext cx="3904200" cy="19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031B8-6C9B-4748-8116-E659447E4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495000"/>
            <a:ext cx="80010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cc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040" y="1922040"/>
            <a:ext cx="3904200" cy="19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13720" y="1922040"/>
            <a:ext cx="3904200" cy="19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4040" y="4101840"/>
            <a:ext cx="8001000" cy="19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EAA26-5647-40BD-8F8E-39BA6A390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495000"/>
            <a:ext cx="80010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cc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040" y="1922040"/>
            <a:ext cx="8001000" cy="19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914040" y="4101840"/>
            <a:ext cx="8001000" cy="19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94C4E-0949-41A4-A531-0C299DBC8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440" y="495000"/>
            <a:ext cx="80010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cc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040" y="1922040"/>
            <a:ext cx="3904200" cy="19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13720" y="1922040"/>
            <a:ext cx="3904200" cy="19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914040" y="4101840"/>
            <a:ext cx="3904200" cy="19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013720" y="4101840"/>
            <a:ext cx="3904200" cy="19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0BB2F-D364-4883-A1E4-AB6990CB7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440" y="495000"/>
            <a:ext cx="80010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cc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4040" y="1922040"/>
            <a:ext cx="2576160" cy="19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619440" y="1922040"/>
            <a:ext cx="2576160" cy="19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324840" y="1922040"/>
            <a:ext cx="2576160" cy="19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914040" y="4101840"/>
            <a:ext cx="2576160" cy="19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619440" y="4101840"/>
            <a:ext cx="2576160" cy="19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324840" y="4101840"/>
            <a:ext cx="2576160" cy="19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8A02B-17F2-4C5F-B1CA-F259842D7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495000"/>
            <a:ext cx="80010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cc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040" y="1922040"/>
            <a:ext cx="8001000" cy="41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C96AF-2650-428B-891B-13C07B83F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495000"/>
            <a:ext cx="80010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cc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040" y="1922040"/>
            <a:ext cx="3904200" cy="41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13720" y="1922040"/>
            <a:ext cx="3904200" cy="41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12C54-3A50-4FAC-8C98-71E5D51AD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495000"/>
            <a:ext cx="80010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c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A4556-33D7-42B6-A5A3-A92959A91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495000"/>
            <a:ext cx="8001000" cy="264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9900c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9BC8C-7258-418F-B1EB-5DEFFA4C0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495000"/>
            <a:ext cx="80010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cc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040" y="1922040"/>
            <a:ext cx="3904200" cy="19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13720" y="1922040"/>
            <a:ext cx="3904200" cy="41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040" y="4101840"/>
            <a:ext cx="3904200" cy="19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552DE-DC2A-40D6-AE40-30903C2F7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495000"/>
            <a:ext cx="80010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cc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040" y="1922040"/>
            <a:ext cx="3904200" cy="41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13720" y="1922040"/>
            <a:ext cx="3904200" cy="19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13720" y="4101840"/>
            <a:ext cx="3904200" cy="19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0A7DE-C5FA-4D91-8096-A9A530B2E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495000"/>
            <a:ext cx="80010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cc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1922040"/>
            <a:ext cx="3904200" cy="19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3720" y="1922040"/>
            <a:ext cx="3904200" cy="19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040" y="4101840"/>
            <a:ext cx="8001000" cy="19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CB3C8-F14A-4D87-A4DC-CFD295A04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5800" y="0"/>
              <a:ext cx="2514600" cy="106668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440" y="495000"/>
            <a:ext cx="80010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cc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9900cc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14040" y="1922040"/>
            <a:ext cx="8001000" cy="41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88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AB569-C34B-46C4-A947-ECE49E022168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" name=""/>
          <p:cNvGrpSpPr/>
          <p:nvPr/>
        </p:nvGrpSpPr>
        <p:grpSpPr>
          <a:xfrm>
            <a:off x="228600" y="1371600"/>
            <a:ext cx="7391520" cy="318960"/>
            <a:chOff x="228600" y="1371600"/>
            <a:chExt cx="7391520" cy="318960"/>
          </a:xfrm>
        </p:grpSpPr>
        <p:sp>
          <p:nvSpPr>
            <p:cNvPr id="10" name=""/>
            <p:cNvSpPr/>
            <p:nvPr/>
          </p:nvSpPr>
          <p:spPr>
            <a:xfrm>
              <a:off x="609480" y="1371600"/>
              <a:ext cx="7010640" cy="317160"/>
            </a:xfrm>
            <a:prstGeom prst="roundRect">
              <a:avLst>
                <a:gd name="adj" fmla="val 0"/>
              </a:avLst>
            </a:pr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>
              <a:off x="228600" y="1371600"/>
              <a:ext cx="393840" cy="318960"/>
            </a:xfrm>
            <a:prstGeom prst="flowChartDelay">
              <a:avLst/>
            </a:pr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1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6"/>
          </p:nvPr>
        </p:nvSpPr>
        <p:spPr>
          <a:xfrm>
            <a:off x="9360" y="6358320"/>
            <a:ext cx="58752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7FAA7-D7CB-44F1-939D-141590FA7AF5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9900cc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SzPct val="80000"/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600200" y="1142640"/>
            <a:ext cx="632448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Java – Methods Part II</a:t>
            </a:r>
            <a:br>
              <a:rPr sz="2800"/>
            </a:b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Lecture Notes 6 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065200" y="3070080"/>
            <a:ext cx="26989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  </a:t>
            </a:r>
            <a:endParaRPr b="0" lang="en-US" sz="2800" spc="-1" strike="noStrike">
              <a:solidFill>
                <a:srgbClr val="9900cc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72520" y="448920"/>
            <a:ext cx="8001000" cy="9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Verdana"/>
              </a:rPr>
              <a:t>“</a:t>
            </a:r>
            <a:r>
              <a:rPr b="0" lang="en-US" sz="3200" spc="-1" strike="noStrike">
                <a:solidFill>
                  <a:srgbClr val="9900cc"/>
                </a:solidFill>
                <a:latin typeface="Verdana"/>
              </a:rPr>
              <a:t>this” is good to check the equality </a:t>
            </a:r>
            <a:endParaRPr b="1" lang="en-US" sz="3200" spc="-1" strike="noStrike">
              <a:solidFill>
                <a:srgbClr val="9900cc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040" y="1922040"/>
            <a:ext cx="8001000" cy="41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baseline="20000">
                <a:solidFill>
                  <a:srgbClr val="000000"/>
                </a:solidFill>
                <a:latin typeface="Verdana"/>
              </a:rPr>
              <a:t>      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272880" y="1922400"/>
            <a:ext cx="864252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uppose you want to see two objects are the sa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uppose that Elevator class has a method called compare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public boolean compareTo(Elevator E)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if (this.id == E.id)  return tru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else return fals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//so in the 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myElevator.compareTo(yourElevator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72520" y="448920"/>
            <a:ext cx="8001000" cy="9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Verdana"/>
              </a:rPr>
              <a:t>Testing for equality </a:t>
            </a:r>
            <a:endParaRPr b="1" lang="en-US" sz="3200" spc="-1" strike="noStrike">
              <a:solidFill>
                <a:srgbClr val="9900cc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22040"/>
            <a:ext cx="8001000" cy="41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baseline="20000">
                <a:solidFill>
                  <a:srgbClr val="000000"/>
                </a:solidFill>
                <a:latin typeface="Verdana"/>
              </a:rPr>
              <a:t>      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"/>
          <p:cNvSpPr/>
          <p:nvPr/>
        </p:nvSpPr>
        <p:spPr>
          <a:xfrm>
            <a:off x="272880" y="1922400"/>
            <a:ext cx="864252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There are two ways to check for equ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using ==  oper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using instance method “equa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- method defined in the object class and uses the == operator by defa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Eg:  System.out.println(x==1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ystem.out.println(x.equals(1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How ab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ystem.out.println(str==“guna”); // if str = “guna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ystem.out.println(str.equals(“guna”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72520" y="448920"/>
            <a:ext cx="8001000" cy="9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Verdana"/>
              </a:rPr>
              <a:t>Testing for equality </a:t>
            </a:r>
            <a:endParaRPr b="1" lang="en-US" sz="3200" spc="-1" strike="noStrike">
              <a:solidFill>
                <a:srgbClr val="9900cc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4040" y="1922040"/>
            <a:ext cx="8001000" cy="41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baseline="20000">
                <a:solidFill>
                  <a:srgbClr val="000000"/>
                </a:solidFill>
                <a:latin typeface="Verdana"/>
              </a:rPr>
              <a:t>      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272880" y="1922400"/>
            <a:ext cx="864252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The operator == compares the reference to an object,not the cont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The metho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object.equals(otherObject) checks the equality of cont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040" y="448920"/>
            <a:ext cx="8001000" cy="9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Verdana"/>
              </a:rPr>
              <a:t>Objects, Classes and Computer Memory </a:t>
            </a:r>
            <a:endParaRPr b="1" lang="en-US" sz="3200" spc="-1" strike="noStrike">
              <a:solidFill>
                <a:srgbClr val="9900cc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14040" y="1922040"/>
            <a:ext cx="8001000" cy="41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baseline="20000">
                <a:solidFill>
                  <a:srgbClr val="000000"/>
                </a:solidFill>
                <a:latin typeface="Verdana"/>
              </a:rPr>
              <a:t>      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"/>
          <p:cNvSpPr/>
          <p:nvPr/>
        </p:nvSpPr>
        <p:spPr>
          <a:xfrm>
            <a:off x="193680" y="1922400"/>
            <a:ext cx="864252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When a Java program is executing, the memory must hol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1. Templates for all classes u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2. Variables that refer to ob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3. Ob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Memory for methods allocated within cla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Memory for data allocated within ob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42600" y="448920"/>
            <a:ext cx="8001000" cy="9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Verdana"/>
              </a:rPr>
              <a:t>Characteristics of Objects </a:t>
            </a:r>
            <a:endParaRPr b="1" lang="en-US" sz="3200" spc="-1" strike="noStrike">
              <a:solidFill>
                <a:srgbClr val="9900cc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040" y="1922040"/>
            <a:ext cx="8001000" cy="41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baseline="20000">
                <a:solidFill>
                  <a:srgbClr val="000000"/>
                </a:solidFill>
                <a:latin typeface="Verdana"/>
              </a:rPr>
              <a:t>      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"/>
          <p:cNvSpPr/>
          <p:nvPr/>
        </p:nvSpPr>
        <p:spPr>
          <a:xfrm>
            <a:off x="272880" y="1657440"/>
            <a:ext cx="8642520" cy="56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An object has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A Behavior (method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A St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an ident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Objects identity is handled by Java Virtual Machine (JV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When the object is out of the scope, then the “Garbage Collector” purges the object from the mem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g:  { Account myAccoun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              …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         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{ Account yourAccoun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          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448920"/>
            <a:ext cx="8001000" cy="9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Verdana"/>
              </a:rPr>
              <a:t>Designing Methods </a:t>
            </a:r>
            <a:endParaRPr b="1" lang="en-US" sz="3200" spc="-1" strike="noStrike">
              <a:solidFill>
                <a:srgbClr val="9900cc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14040" y="1922040"/>
            <a:ext cx="8001000" cy="41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baseline="20000">
                <a:solidFill>
                  <a:srgbClr val="000000"/>
                </a:solidFill>
                <a:latin typeface="Verdana"/>
              </a:rPr>
              <a:t>      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"/>
          <p:cNvSpPr/>
          <p:nvPr/>
        </p:nvSpPr>
        <p:spPr>
          <a:xfrm>
            <a:off x="272880" y="1905120"/>
            <a:ext cx="864252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irst Understand the user requir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What kind of public behaviors do they wan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g: Elevator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ethods needed:  constructors, accessors, muta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onstructor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1. A default constru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ublic Elevator() { currentFloor=0; direction=true;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A Specific Constru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ublic Elevator(int floor, boolean dir)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        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urrentFloor = floor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        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direction = dir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448920"/>
            <a:ext cx="8001000" cy="9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Verdana"/>
              </a:rPr>
              <a:t>Designing Methods </a:t>
            </a:r>
            <a:endParaRPr b="1" lang="en-US" sz="3200" spc="-1" strike="noStrike">
              <a:solidFill>
                <a:srgbClr val="9900cc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040" y="1922040"/>
            <a:ext cx="8001000" cy="41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baseline="20000">
                <a:solidFill>
                  <a:srgbClr val="000000"/>
                </a:solidFill>
                <a:latin typeface="Verdana"/>
              </a:rPr>
              <a:t>      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"/>
          <p:cNvSpPr/>
          <p:nvPr/>
        </p:nvSpPr>
        <p:spPr>
          <a:xfrm>
            <a:off x="272880" y="1905120"/>
            <a:ext cx="864252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ome Accessor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ublic final int floor(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return currentFloor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ome Mutator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ublic void moveToNextFloor(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if (direction)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if (currentFloor&lt; MaxFloo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         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urrentFloor++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lse  direction = false; currentFloor--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lse  comple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448920"/>
            <a:ext cx="8001000" cy="9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Verdana"/>
              </a:rPr>
              <a:t>Designing Methods </a:t>
            </a:r>
            <a:endParaRPr b="1" lang="en-US" sz="3200" spc="-1" strike="noStrike">
              <a:solidFill>
                <a:srgbClr val="9900cc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040" y="1922040"/>
            <a:ext cx="8001000" cy="41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baseline="20000">
                <a:solidFill>
                  <a:srgbClr val="000000"/>
                </a:solidFill>
                <a:latin typeface="Verdana"/>
              </a:rPr>
              <a:t>      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"/>
          <p:cNvSpPr/>
          <p:nvPr/>
        </p:nvSpPr>
        <p:spPr>
          <a:xfrm>
            <a:off x="272880" y="1905120"/>
            <a:ext cx="864252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ublic void move()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// pseudo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// if elevator is moving up check the n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// service requested floor above and move there by invoking moveToNextFlo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// else check to see if anyone below has request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// 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*  Complete the code assuming elevator has a boolean array of floor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boolean []   floorLis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72520" y="448920"/>
            <a:ext cx="8001000" cy="9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Verdana"/>
              </a:rPr>
              <a:t>SubClasses and SuperClasses </a:t>
            </a:r>
            <a:endParaRPr b="1" lang="en-US" sz="3200" spc="-1" strike="noStrike">
              <a:solidFill>
                <a:srgbClr val="9900cc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040" y="1922040"/>
            <a:ext cx="8001000" cy="41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baseline="20000">
                <a:solidFill>
                  <a:srgbClr val="000000"/>
                </a:solidFill>
                <a:latin typeface="Verdana"/>
              </a:rPr>
              <a:t>      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272880" y="1922400"/>
            <a:ext cx="864252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public class Elevator {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  …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uppose that Super Elevator is a subclass of elev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public class SuperElevator extends Elevator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public SuperElevator()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uper();  // calls the super class constru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nonStop = tru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What is super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super() calls the parent class (super class) constructor to be us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in the new clas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72520" y="448920"/>
            <a:ext cx="8001000" cy="9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Verdana"/>
              </a:rPr>
              <a:t>SubClasses and SuperClasses </a:t>
            </a:r>
            <a:endParaRPr b="1" lang="en-US" sz="3200" spc="-1" strike="noStrike">
              <a:solidFill>
                <a:srgbClr val="9900cc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040" y="1922040"/>
            <a:ext cx="8001000" cy="41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baseline="20000">
                <a:solidFill>
                  <a:srgbClr val="000000"/>
                </a:solidFill>
                <a:latin typeface="Verdana"/>
              </a:rPr>
              <a:t>      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"/>
          <p:cNvSpPr/>
          <p:nvPr/>
        </p:nvSpPr>
        <p:spPr>
          <a:xfrm>
            <a:off x="272880" y="1922400"/>
            <a:ext cx="864252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What is super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Super activates methods from the super (or parent clas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eg:  super()   - activates the default constrcu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super(argument list) - activates a specific constru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ctivating other metho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super.&lt;method name&gt; ( &lt;arguments list&gt;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eg:   super.moveToFloor(n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where moveToFloor is a method in  elevator clas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72520" y="448920"/>
            <a:ext cx="8001000" cy="9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Verdana"/>
              </a:rPr>
              <a:t>What is this? </a:t>
            </a:r>
            <a:endParaRPr b="1" lang="en-US" sz="3200" spc="-1" strike="noStrike">
              <a:solidFill>
                <a:srgbClr val="9900cc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040" y="1922040"/>
            <a:ext cx="8001000" cy="41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baseline="20000">
                <a:solidFill>
                  <a:srgbClr val="000000"/>
                </a:solidFill>
                <a:latin typeface="Verdana"/>
              </a:rPr>
              <a:t>      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"/>
          <p:cNvSpPr/>
          <p:nvPr/>
        </p:nvSpPr>
        <p:spPr>
          <a:xfrm>
            <a:off x="272880" y="1922400"/>
            <a:ext cx="864252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public Elevator (int currentFloor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this.currentFloor = currentFloo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The word “this” is a reserved word. “this” refers to the object itself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This.currentFloor refers to whatever the current objects in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Eg: Elevator SouthElevator(5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Elevator NorthElevator(4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outhElevator.compareTo(NorthElevato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2T18:58:35Z</dcterms:created>
  <dc:creator>dslater</dc:creator>
  <dc:description/>
  <dc:language>en-US</dc:language>
  <cp:lastModifiedBy>student</cp:lastModifiedBy>
  <dcterms:modified xsi:type="dcterms:W3CDTF">2001-09-14T19:19:42Z</dcterms:modified>
  <cp:revision>152</cp:revision>
  <dc:subject/>
  <dc:title>Advanced Placement /  Early Admission</dc:title>
</cp:coreProperties>
</file>