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BAE-9825-47F1-B36F-11A2B7EC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413-1861-45D5-A0C0-FAE595A4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29F-4714-47BC-854A-9753FB12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870-E37A-4193-9B59-BC3CA603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8CCA-0459-4D53-93DF-7C23A65F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2588-9AB8-4FA2-8444-2436525C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4FAD-0DF0-4E2D-A130-F4A0DDA3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7B3E-5C38-472C-B782-FA719E6F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7FC8-FC6C-418B-B19F-A9FECE45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D3E4-68C1-45D6-AA4E-701BD7F0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98E8-C449-4F95-9E0F-180E0CE9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494-F566-4F1F-B139-20B53D3C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7367-B013-4C24-84E5-282DC742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6CF6-671C-4EA3-B98D-FC0A5B4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6729-C092-4047-A584-C09B1576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A05D-E4AB-4C2F-9D94-6E1F1D5E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13F-67B2-45E4-8664-0D21E1F1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53D-B4CC-42DB-B05B-A912679B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293-A06C-4A32-84BC-CB47A7D4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F2D-8E4F-4018-BAF7-3763D8BB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1C8-37CB-4830-A713-CC0D6DDD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6B5-BD7D-4706-AC26-97520CD5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F7B-6B39-4443-A08C-A1F590B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007-9666-42E4-946E-6EA986AE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084-60AC-4DBA-AEA5-44C5F0AB13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0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FB88-5D18-4BE6-9369-2A0E4625C3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asses Containing Vectors</a:t>
            </a:r>
            <a:br>
              <a:rPr sz="28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ecture Notes 7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65200" y="3070080"/>
            <a:ext cx="2698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Classes Containing Vectors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7000"/>
            <a:ext cx="80010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 us look at a simple class containing a vector obje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class Passeng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short passenger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short elevator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short origi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callElevator();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class Elevat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public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pickPassenger(Passenger 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dropPassenger(Passenger P);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Vector passengerList= new Vector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Pick/Drop Passenger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610000"/>
            <a:ext cx="800100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858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void PickPassenger(Passenger P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ssengerList.addElement(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void dropPassenger(Passenger P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ssengerList.removeElement(P);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Verdana"/>
              </a:rPr>
              <a:t>Stack Class</a:t>
            </a:r>
            <a:endParaRPr b="1" lang="en-US" sz="54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1895040"/>
            <a:ext cx="80010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class Stack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 Vector L = new Vector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push(Object x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.addElement(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pop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L.remove(L.size()-1)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Object top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(L.elementAt(L.size()-1));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empty(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turn (L.size() == 0);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n application of Stack</a:t>
            </a:r>
            <a:endParaRPr b="1" lang="en-US" sz="36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17620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the expression 4 + 2*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pression is said to be in “infix” n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expression is converted into “postfix” n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 2  3  * 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we evaluate th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 all operands to the stack until an operator is encount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an operator is encountered pop two operands and perform the operation and push the answer back to the sta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his process until no more op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An application of Stack ctd..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76184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ck 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(!d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operand/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operand S.push(o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x = S.pop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 = S.pop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op == “+”)  S.push(x+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op == “-”)  S.push(x-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op == “*”)  S.push(x*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op == “/”)  S.push(x/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Verdana"/>
              </a:rPr>
              <a:t>OnePerson Class</a:t>
            </a:r>
            <a:endParaRPr b="1" lang="en-US" sz="44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831680"/>
            <a:ext cx="80010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class OnePerso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OnePerson(int I, string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{id=I; name=n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w we can create OnePerson ob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ePerson Me(1, “guna”);  // singl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ctor List= new Vector();   // vector of ob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t.addElement(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32040"/>
            <a:ext cx="80010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class PersonDB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vate Vector L=new Vector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PersonDB(){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void add(Object O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.addElement(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boolean searchDB(OnePerson P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 (L.contains(P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boolean MoveToBack(OnePerson P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(L.contains(P)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{ L.remove(P); L.addElement(P); return true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boolean moveToFront(OnePerson P){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Verdana"/>
              </a:rPr>
              <a:t>PersonDB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8:58:35Z</dcterms:created>
  <dc:creator>dslater</dc:creator>
  <dc:description/>
  <dc:language>en-US</dc:language>
  <cp:lastModifiedBy>student</cp:lastModifiedBy>
  <dcterms:modified xsi:type="dcterms:W3CDTF">2001-09-17T18:20:35Z</dcterms:modified>
  <cp:revision>146</cp:revision>
  <dc:subject/>
  <dc:title>Advanced Placement /  Early Admission</dc:title>
</cp:coreProperties>
</file>