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407-82BA-4EA6-B618-DC2EFF6B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728-A790-40BC-B17E-E19E2AD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EFA-0602-4B90-AC8D-295C99E1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E73-6847-4496-8582-6FACD86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F4AD-303F-415C-9CC0-6E8830B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A3D3-6656-4D42-BF3B-654CE4AE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4927-F68A-428C-9581-4A5E396A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5FF0-2BEA-4F9B-A3A3-FC0DA1C9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B915-C47F-40D8-B566-169B4AE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8298-EF2D-40DE-BDAC-BA05CD70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4E6D-4418-4310-B6F3-5068F0C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A70-D8F1-440F-87B7-BA26455A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4735-3826-42A3-AE50-21B883F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EEC-8263-4257-AEAA-C9D5B520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E0A-07A9-41AE-8B9F-CD4B3B3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97F8-3D93-458B-B509-7EE5D54C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23F-FCCA-4586-B18A-B47AE789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AC9-FCFD-4AAB-A4A1-BF5F9F21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CD2-C47A-41D1-B347-19BF2627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6B9-7B97-49C8-91E3-613EB95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6BF-8F3F-4ED9-9DCE-AD83366E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D54-EDB6-427A-95FB-92B4C65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B88-082C-49EA-A17F-9955EA1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85E-3195-43CB-9CD3-9CAF5C66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877-2F8F-4E86-A183-99C3A95FBD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2BC-96EA-490D-8010-5B9450F656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Set Class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8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A Class Containing a Vector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The Set Clas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class Set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Vector lis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() { …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equals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isEmpty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Write Few Method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610000"/>
            <a:ext cx="800100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858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 with the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 does it mean to say we build a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s means initializing the cont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Set () { list = new Vector(); size=0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te that using size is more efficient than calling vector.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e anoth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boolean isEmpty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 (size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e another method -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boolean contains(Object obj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(list.contains(obj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Verdana"/>
              </a:rPr>
              <a:t>Other Methods</a:t>
            </a: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9540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e completed as part of the lab 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The union of two sets</a:t>
            </a:r>
            <a:endParaRPr b="1" lang="en-US" sz="36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9064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assume that the universal set is {1,2…,100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 temp = new Set(); // A.union(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(int I=1;I&lt;=100;I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   if (this.contains(I) || B.contains(I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.addElement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don’t use int I as an argumn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use Integer class to pass an Object to cont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asses containing arrays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imilar to classes containing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ifference is in th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ze is fixed at compil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instead of a vector, you are only allowed to use an array. How will the definitions chan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The Set Class - An Array implementation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int[] li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capac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(int size) { …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isEmpty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full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Let us implement few methods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(int size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= new int[size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acity = siz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s.size =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int obj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(!full(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[size++]=obj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24T18:20:19Z</dcterms:modified>
  <cp:revision>152</cp:revision>
  <dc:subject/>
  <dc:title>Advanced Placement /  Early Admission</dc:title>
</cp:coreProperties>
</file>